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7EF-33AE-4392-B308-C12BEDEA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573-EAE2-4B93-B30E-1A6E46D9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FB1-A77B-4D1A-9588-06DA40F0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607-8D81-4C8D-9247-F77F26CB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A5A-6E50-40C0-B647-41FD59AD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9B1-FF1D-43CC-B31A-F49E1154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17B-AB6D-4C1F-8044-09CCDBAC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D82-37E3-4820-9DDC-CE9B05B6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389-CE91-4E8D-8884-83DF32F9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E3C-B3C5-4A0E-AA61-D9ADD7C0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5B6-156B-41C9-BD10-DD88FEBE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B11-C0C9-4F80-9EB5-FDB9A4EC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67DD-4285-4560-9826-DFEF56E03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1700280"/>
            <a:ext cx="6480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ersonal Ite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192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38440" y="260280"/>
            <a:ext cx="5734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65360" y="0"/>
            <a:ext cx="581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12680"/>
            <a:ext cx="7920000" cy="621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809640"/>
            <a:ext cx="84978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1280" y="-30240"/>
            <a:ext cx="792144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353880"/>
            <a:ext cx="799128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839880"/>
            <a:ext cx="727236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44280"/>
            <a:ext cx="648036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62040" y="0"/>
            <a:ext cx="4392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1255680"/>
            <a:ext cx="66960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1640" y="896760"/>
            <a:ext cx="763272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792440"/>
            <a:ext cx="914400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82440"/>
            <a:ext cx="813744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19280" y="204840"/>
            <a:ext cx="62658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81040" y="1519200"/>
            <a:ext cx="61819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2:32:13Z</dcterms:created>
  <dc:creator>Administrador</dc:creator>
  <dc:description/>
  <dc:language>en-US</dc:language>
  <cp:lastModifiedBy>Administrador</cp:lastModifiedBy>
  <dcterms:modified xsi:type="dcterms:W3CDTF">2011-05-13T08:03:44Z</dcterms:modified>
  <cp:revision>3</cp:revision>
  <dc:subject/>
  <dc:title>Diapositiva 1</dc:title>
</cp:coreProperties>
</file>